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109-1566-48E9-8F1A-0460C622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DF6-258A-4A97-9E1A-70A121E0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EE1-2A5F-4FFB-9554-40749C91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DFD-DD43-4733-8118-776FBE00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3E2F-2F89-4776-8388-1127BFD3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1844-4964-467C-B20F-24F63EE2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BE78-0591-43D3-8281-D4EF029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329E-B2F3-4062-B4CD-5483F179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2A8B-8983-45FC-8A85-F2F0994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F6B5-A4DA-4BA2-BE0C-7653BF60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DD11-AC6B-438E-BF41-7D510F2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31C-ADAB-4C45-B745-433667A6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6A08-AF89-4CD1-8D23-AD52CA85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11D7-F2DF-445A-B5A9-7F645B5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BCF9-136E-4300-A56A-DB99798D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D0D-FD35-4DD5-96AC-2E8919A4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F519-A914-4810-BBE8-14451571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29E-9734-46CF-A350-C3CCCB4F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B3D-E695-4A91-A09E-79FA091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E4B-0724-4A4A-AD19-ADE325BF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430-591E-4F38-AC5E-700F50EB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B65-FBFA-431D-ABDE-86FD4C9B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CA9-C434-490D-B68C-4A5ADEC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859-9004-4E59-9FC8-D7B8043E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461-BF22-4CFD-A85A-967A7FF046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8505-F73A-4F40-B0F6-40DF67758C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ЛЕКЦИЈА КАНДИДАТ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и ОРЈЕНТ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762120" y="16668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тали 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 на дрогу и 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граф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в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јчешће коришћен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иктор у селекцији канди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ликом интервјуисањ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с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конт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увеличавање негативних информ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в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е услед разлика у раси, националности, старости и п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рвог у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ло 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ретераног утицаја невербалн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огрешног разумевања и мемориса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интервју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руктурира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лу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броју осо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е воде интерв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ндивиду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ан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им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оцијализ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знавање новозапослених кандидата са доминантним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редност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авов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ормама понаш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организац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ријента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упознавање са пос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селек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ри критерију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ли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цио сел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топа почетног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и тест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и грешака у селек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решан избор канди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бијање добрих канди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елекциј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цес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зб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међу квалификованих кандидата за одређени посао и доношење одлуке о његовом запошљавању или одбијањ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и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лекције је предвиђање будућег понашања потенцијалних кандидата и њихових перформанси на по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нципи селек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Људи 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еђусобно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ку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погледу многих осо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чити посл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хтевају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чите особ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комбинације осо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међу људ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је могућ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очити 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ри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ји веза измеђ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дикт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особина људи) 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успешност обављања посл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рење предиктор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свак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едикт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реба наћи одговарајућ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нструмен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а се фокусирати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ључне предикто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графија и формулар за приј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Анализа биографских податак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V (Curriculum Vit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ар за пријављ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тивационо пис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рст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тест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исан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стови узорака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рни цен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дицински, физички и полиграф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исани 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гнитив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пособности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ербалне, нумерич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сихомотор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пособности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рзина, перцепција, тач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еликих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имен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кстравертност, Пријатност, Свесност, Емоционална стабилност, Отвореност за иску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интерес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стови узорака посл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 на практичним ства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улација реалних услова на пос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упи су за спрово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њују се када им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рој кандидата, обично на крају процеса сел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З: перформансе током ових тесто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рни центр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чно се користе за селекцију кандидат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 менаџерске пози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 се различит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хни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ерење у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ерење помоћу гр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туациони тест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-basket тест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групна дискусија без вођ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грање уло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удија случа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4:24Z</dcterms:modified>
  <cp:revision>165</cp:revision>
  <dc:subject/>
  <dc:title>Soft and Hard Skills Development: A Current Situation in Serbian Companies</dc:title>
</cp:coreProperties>
</file>